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344-926A-40B5-9C4B-B51FE02C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393-D205-4056-BCA2-C03A580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548-E5DF-4E88-A204-B3B82982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F44-C105-4E01-986F-E1307201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F53D-80A3-4161-BA34-B8CCB3AF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C264-C16A-4671-A501-A0081B28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8AA9-5157-44D8-AD60-8FE5E23E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A6D7-60A1-40A7-A3CD-F735F370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B9A-16B6-412F-AA93-6AF03395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61C-1853-4F82-9CCE-A9779D0F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752D-CF3F-494D-8620-DAB9B93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B4B-9E0C-4916-9A74-A2223704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102E-8E23-4C40-99C5-133C885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59F1-EDE9-44AD-B1A8-E78DD15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75B0-43E6-4714-B2FD-CBD3728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3258-7BC3-4329-BC55-0F300242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B946-D4EE-4595-A6F9-87905DCF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107B-FE38-45EA-8580-138BB2D3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2BC8-4EA3-4B40-9CFF-F230C49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EE5A-0FA1-489C-B8E0-991A214D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780B-B465-4CFC-B588-6C376818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0C34-C464-4064-A7DD-0146BE5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F83-5EC2-4B31-B3C6-2E3B658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9A6B-79CE-437C-8577-15838C38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6359-1B94-43C4-B0AA-3FB0A36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201B-DF59-41E8-9963-8A20FAAE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01F8-2145-437D-B4EF-34A99F6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BC00-6D8D-430B-B23B-74C8687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40D2-74B7-4EBF-89BA-720B7BC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0A4D-8D38-4A28-B6A1-630DF131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D0736-BB12-4E2B-BB14-EA6F262F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2A76-FB5E-4EE1-B6F8-9A4EAB6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442F-9C69-4241-BB65-E4972053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FE9-20B5-41CB-A1A3-641DAB37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3706-F9BC-4270-BA3F-C7E2EB0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648D-1195-4D10-AA1C-11A634B2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9725-8115-4703-8780-903382E7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2F51-A24C-4072-8566-E5C8B42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45D5-6128-4DEB-828C-1F5ED3B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C5E9-7CC5-4E9F-971B-C4BDE81A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AC116-2AE6-4C1E-A1EA-DEB36DC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DDCE-E2CC-44A1-BB27-BFF716C7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4A475-7273-4747-81DF-884C246E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459-5A73-4BEB-B20F-B591566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F72-E95B-4F12-A832-9D71F90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344-7950-487E-900C-4685DC0A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DB5-05B8-48B9-9EAA-32B1C52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8EA-0430-4E2C-941E-28DA6A0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B59FE-D18F-45FF-88E7-D764D4051E5B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714AA-00A3-4F6F-9029-C188A07112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C4D50-EC4F-4546-B1C9-D39F85D26FB5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5E16D-ED22-4E79-96A5-9D22F42340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472F9-7EC2-47D0-A0EF-CE0A9FC62D08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6D00-8DB0-4699-B416-0560518685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E5FBE-2DF5-455A-A342-838B2BF4E411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600D5-A307-4EAB-BD4D-9C6021B59B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xacxShp3LY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Yov6aCqt8w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uite101.com/content/why-overfishing-matters-a146870#ixzz1Da6WCvPq" TargetMode="External"/><Relationship Id="rId2" Type="http://schemas.openxmlformats.org/officeDocument/2006/relationships/hyperlink" Target="http://www.suite101.com/content/why-overfishing-matters-a146870#ixzz1Da6WCvPq" TargetMode="External"/><Relationship Id="rId3" Type="http://schemas.openxmlformats.org/officeDocument/2006/relationships/hyperlink" Target="http://www.suite101.com/content/why-overfishing-matters-a146870#ixzz1Da6WCvPq" TargetMode="External"/><Relationship Id="rId4" Type="http://schemas.openxmlformats.org/officeDocument/2006/relationships/hyperlink" Target="http://www.grinningplanet.com/2005/06-07/overfishing-article.htm" TargetMode="External"/><Relationship Id="rId5" Type="http://schemas.openxmlformats.org/officeDocument/2006/relationships/hyperlink" Target="http://www.grinningplanet.com/2005/06-07/overfishing-article.htm" TargetMode="External"/><Relationship Id="rId6" Type="http://schemas.openxmlformats.org/officeDocument/2006/relationships/hyperlink" Target="http://www.elcamino.edu/faculty/tnoyes/Readings/13CR.pdf" TargetMode="External"/><Relationship Id="rId7" Type="http://schemas.openxmlformats.org/officeDocument/2006/relationships/hyperlink" Target="http://www.elcamino.edu/faculty/tnoyes/Readings/13CR.pdf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785808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www.coral.org/files/images/800px-Nwhi_-_French_Frigate_Shoals_reef_-_many_fish.jpg"/>
          <p:cNvPicPr/>
          <p:nvPr/>
        </p:nvPicPr>
        <p:blipFill>
          <a:blip r:embed="rId2"/>
          <a:stretch/>
        </p:blipFill>
        <p:spPr>
          <a:xfrm>
            <a:off x="1447920" y="2438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Overfishing- the consequ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2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VxacxShp3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752480" y="2558880"/>
            <a:ext cx="5715000" cy="429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olutions for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ea typeface="ＭＳ Ｐゴシック"/>
                <a:hlinkClick r:id="rId1"/>
              </a:rPr>
              <a:t>http://www.youtube.com/watch?v=0Yov6aCqt8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gulation is needed to prevent or limit bottom trawling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imiting the number of days a haul can set off per month could also be extremely helpful in allowing fish stocks to recove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t educate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earn about the kind of fish you purch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pread the wor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1"/>
              </a:rPr>
              <a:t>Why Overfishing Matters-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2"/>
              </a:rPr>
              <a:t>Why Overfishing Matters: How Lost Ocean Life Affects the World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3"/>
              </a:rPr>
              <a:t>http://www.suite101.com/content/why-overfishing-matters-a146870#ixzz1Da6WCvPq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4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5"/>
              </a:rPr>
              <a:t> http://www.grinningplanet.com/2005/06-07/overfishing-article.ht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6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7"/>
              </a:rPr>
              <a:t> http://www.elcamino.edu/faculty/tnoyes/Readings/13CR.pdf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lobal warming issues &amp; Human impact on the ocean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divesitedirectory.com/global_warming_coral_effects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 fishing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ypte.org.uk/environmental/over-fishing/29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Over fishing-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http://www.scribd.com/doc/6592367/Over-Fish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overfishing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erfishing is taking so many fish from the ocean that there are not enough left to reproduce and replenish the popul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5" descr="http://assets.panda.org/img/overfish_img1_col2b_233392.jpg"/>
          <p:cNvPicPr/>
          <p:nvPr/>
        </p:nvPicPr>
        <p:blipFill>
          <a:blip r:embed="rId1"/>
          <a:stretch/>
        </p:blipFill>
        <p:spPr>
          <a:xfrm>
            <a:off x="457200" y="3556080"/>
            <a:ext cx="4572000" cy="2886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t1.gstatic.com/images?q=tbn:ANd9GcT41H3o2HBfmnxYaNQwsII2W2yBkKQ2TWtJFb7z0R0O1D35xBRMhQ&amp;t=1"/>
          <p:cNvPicPr/>
          <p:nvPr/>
        </p:nvPicPr>
        <p:blipFill>
          <a:blip r:embed="rId2"/>
          <a:stretch/>
        </p:blipFill>
        <p:spPr>
          <a:xfrm>
            <a:off x="5524560" y="3581280"/>
            <a:ext cx="316224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estructive fishing techniq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Huge fishing fleet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(when combined are two times larger than our earth can sustain) scoop up huge quantities of species at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technology and even airplanes to find the fis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Bycatc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the capture of marine animals that are unwanted and are thrown back after captur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mally, most of the discards can be assumed not to surviv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ause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numbers of fish species have been reduced by the 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igh-tech fishing equipme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ch a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actory ship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adar technology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ongline fish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ottom trawl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le and line metho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e of poi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ast fishing/ use of explosiv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://www.mareud.com/images_unknown/Horsun-01.jpg"/>
          <p:cNvPicPr/>
          <p:nvPr/>
        </p:nvPicPr>
        <p:blipFill>
          <a:blip r:embed="rId1"/>
          <a:stretch/>
        </p:blipFill>
        <p:spPr>
          <a:xfrm>
            <a:off x="144360" y="304920"/>
            <a:ext cx="404676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914400" y="2997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y 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http://x-journals.com/wp-content/uploads/2009/05/new-antarctic-seabed-sonar.jpg"/>
          <p:cNvPicPr/>
          <p:nvPr/>
        </p:nvPicPr>
        <p:blipFill>
          <a:blip r:embed="rId2"/>
          <a:stretch/>
        </p:blipFill>
        <p:spPr>
          <a:xfrm>
            <a:off x="4724280" y="304920"/>
            <a:ext cx="3810240" cy="3060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5486400" y="3365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ar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0" descr="http://www.sustainablesushi.net/wp-content/uploads/2010/04/longline-fishing1.jpg"/>
          <p:cNvPicPr/>
          <p:nvPr/>
        </p:nvPicPr>
        <p:blipFill>
          <a:blip r:embed="rId3"/>
          <a:stretch/>
        </p:blipFill>
        <p:spPr>
          <a:xfrm>
            <a:off x="144360" y="3365640"/>
            <a:ext cx="4046760" cy="307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1"/>
          <p:cNvSpPr/>
          <p:nvPr/>
        </p:nvSpPr>
        <p:spPr>
          <a:xfrm>
            <a:off x="1066680" y="64436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2" descr="http://t2.gstatic.com/images?q=tbn:ANd9GcRjH64G0nQMoSFQH8gjwiXJAdDjs40mxCQO-coME0PhBX0Ii6Yf6A&amp;t=1"/>
          <p:cNvPicPr/>
          <p:nvPr/>
        </p:nvPicPr>
        <p:blipFill>
          <a:blip r:embed="rId4"/>
          <a:stretch/>
        </p:blipFill>
        <p:spPr>
          <a:xfrm>
            <a:off x="4419720" y="3735360"/>
            <a:ext cx="4467240" cy="2509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5715000" y="6259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tom traw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reenpeace.org/new-zealand/ReSizes/OriginalWatermarked/Global/new-zealand/P3/photos/oceans/2010/GP01PJV_layout.jpg"/>
          <p:cNvPicPr/>
          <p:nvPr/>
        </p:nvPicPr>
        <p:blipFill>
          <a:blip r:embed="rId1"/>
          <a:stretch/>
        </p:blipFill>
        <p:spPr>
          <a:xfrm>
            <a:off x="304920" y="152280"/>
            <a:ext cx="4740120" cy="28288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1295280" y="302724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 and 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5248440" y="380880"/>
            <a:ext cx="3895560" cy="2934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6019920" y="3314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1295280" y="3397320"/>
            <a:ext cx="5045040" cy="3128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>
            <a:off x="3048120" y="647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y is overfishing a problem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724280" y="3733920"/>
            <a:ext cx="419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52% of fish stocks are ful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20% are moderate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7% are over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7% are deple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% is recovering from deple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46240" y="1498680"/>
            <a:ext cx="56386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eans are at risk of collap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cies exti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isk of losing a valuable food sour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s of income for fisherm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http://www.accu-techrchardware.com/sitebuilder/images/ocean_water_background_3-713x363.jpg"/>
          <p:cNvPicPr/>
          <p:nvPr/>
        </p:nvPicPr>
        <p:blipFill>
          <a:blip r:embed="rId1"/>
          <a:stretch/>
        </p:blipFill>
        <p:spPr>
          <a:xfrm>
            <a:off x="27000" y="4191120"/>
            <a:ext cx="4579920" cy="233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http://www.hasonraja.co.uk/images/fish_food_photo_03.jpg"/>
          <p:cNvPicPr/>
          <p:nvPr/>
        </p:nvPicPr>
        <p:blipFill>
          <a:blip r:embed="rId2"/>
          <a:stretch/>
        </p:blipFill>
        <p:spPr>
          <a:xfrm>
            <a:off x="5854680" y="1447920"/>
            <a:ext cx="2832120" cy="21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ndangered fisheri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me of the species most threatened by overfishing are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tlantic Halibu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onk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word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ropical shrim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ue Fin Tun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ther animals not usually associated with the seafood industry are also affected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urt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lphi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ha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ll shark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ffect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28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Overfishing disrupts the natural balance ecosystems attain over thousands of years of evolution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ntire food webs and chains can collap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endangers the fish population which means our food supply is at risk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57200" y="34750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Why does this keep happening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ecause of the high demand for fish, people are willing to pay a lot of money, so fishermen will do anything for their many customer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41:44Z</dcterms:created>
  <dc:creator>PA Department of Education Classrooms for the Future</dc:creator>
  <dc:description/>
  <dc:language>en-US</dc:language>
  <cp:lastModifiedBy>dhakim</cp:lastModifiedBy>
  <dcterms:modified xsi:type="dcterms:W3CDTF">2012-03-30T13:31:35Z</dcterms:modified>
  <cp:revision>59</cp:revision>
  <dc:subject/>
  <dc:title>overfishing</dc:title>
</cp:coreProperties>
</file>